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05411"/>
        <c:axId val="81388105"/>
      </c:barChart>
      <c:catAx>
        <c:axId val="80105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88105"/>
        <c:crosses val="autoZero"/>
        <c:auto val="1"/>
        <c:lblAlgn val="ctr"/>
        <c:lblOffset val="100"/>
        <c:noMultiLvlLbl val="0"/>
      </c:catAx>
      <c:valAx>
        <c:axId val="81388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05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E74-D443-4F85-868F-8623C7AA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9B6-AA43-4266-BC65-0ECECFEB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1F6-669C-42D4-B5E9-45B670DC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FBE-5450-4AAB-AF0F-8AAE6722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CF9-3D24-41BD-A5C2-F3C045AF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628-0DF1-453B-8230-3F7799FF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AE9-F264-48A7-84E5-BFF953FE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CAF-1762-45A3-88B7-CF05E047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71E-5D2C-483A-B76C-81F417D7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6F6-39D4-459F-AEDA-C235A6E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9A7-06A3-418C-A3AC-141CE3E9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B7D-CEC7-480D-BBA7-2DF30FD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13D4C-EA83-4D7A-9DFE-9D6E45279E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