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63957"/>
        <c:axId val="29062850"/>
      </c:barChart>
      <c:catAx>
        <c:axId val="71363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2850"/>
        <c:crosses val="autoZero"/>
        <c:auto val="1"/>
        <c:lblAlgn val="ctr"/>
        <c:lblOffset val="100"/>
        <c:noMultiLvlLbl val="0"/>
      </c:catAx>
      <c:valAx>
        <c:axId val="29062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63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293-6CF9-439B-9511-DE3F8E4E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901-997B-46DE-8935-5182C0E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440-3C49-45E0-A5C7-686FB7D5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CE6-4BC9-4255-8118-4A4367AD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188-F906-4ADA-B2BE-023619E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818-4407-42F1-B8A3-A78305D3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282-79FD-400F-9014-C32B990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50A-A449-4806-A829-445BFBC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E4C-1E5A-4DC9-A170-A8CC5BF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C8D-8AD5-4ABB-9799-D2F0F1D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FF4-459D-4937-9F1B-83218AB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E8A-B05B-4AE2-98E7-D5D24A5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39AB9-F432-47E4-AB10-575DC09F7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