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43279"/>
        <c:axId val="16736307"/>
      </c:barChart>
      <c:catAx>
        <c:axId val="70743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36307"/>
        <c:crosses val="autoZero"/>
        <c:auto val="1"/>
        <c:lblAlgn val="ctr"/>
        <c:lblOffset val="100"/>
        <c:noMultiLvlLbl val="0"/>
      </c:catAx>
      <c:valAx>
        <c:axId val="16736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43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38C-E340-4B12-8A97-879D90E1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24EB-D3CA-467B-B96C-9E29168A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AC54-F9E5-44C8-A6BA-EF18DD50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3ED-D272-414F-B8FB-42047D58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037-CD4C-4F12-AE84-AE25B83C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5FD4-C2D5-46D9-8B72-A48F5D90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864-6ED6-437E-9C4D-225298EA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36DE-D803-4262-94B9-160B1EC8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2F36-1B26-443D-A75D-4615A50F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2517-4BD5-414B-AF0C-B511E92E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09EF-1AF4-48D7-BD68-4014D104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AB71-527C-4DE9-B027-BAB61B12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4FE22-20A1-4D25-8E44-0CE88E89A1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